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9.wmf" ContentType="image/x-wmf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3E88-8070-4DE1-BB56-3D1ED317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655C-63EB-4C11-9FF0-685D6D136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567-40C7-4540-9522-7E93F587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F82-91CB-4042-B3A7-935CC8AF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F6F-7360-4CB4-8625-55E72925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AB6-B08E-4A6D-B7B1-D3DD509A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D09-DF52-4738-BC0E-B0AA8066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5BCD6-C0F5-4D3C-A0CD-25C65CC9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1D521-0845-4841-A0B2-793EA91A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05FAE-8612-4825-BA97-9889360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16C99-36EE-4CC2-8DAD-1849E4FA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72E7D-8777-4DD9-B318-CF8202CD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282-FF21-40F0-AA4A-578C05C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A0633-18F2-4AA2-BF8F-28AC0A5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F9553-6DFE-4AAD-9457-9A26F902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6CF4D-88A0-4970-9A9B-36095B7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08CBB-ECAD-43BB-BCB1-5D383063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199B7-85B3-449B-88EE-216ED033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8EA43-9DE9-45C4-8A81-215229B3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49F55-596D-40E2-96F9-B98C8DFA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23B0E-6701-4305-A86D-50F60CE6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A2539-DC03-46C9-8AB7-B5943A26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CD49F-C59A-4AE7-A812-4BE01072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A3F-44F5-4161-AE39-D672007F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BA846-C146-495B-ACFF-B86A130D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9BF52-F6E4-44D9-918E-628605E4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3AE46-DBA2-4B16-AEA9-017CF894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C68F2-F830-4E5C-97C7-D6042AE2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5DCDCE-96E0-4683-93ED-B53E843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08707-2ED9-4040-A716-E345A2FD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DBCD7-77D7-42D5-A7E0-CA4D79F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5CF1A-8CBA-4628-85B2-DFF6042A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20D35-8D5F-46C3-926E-F727A577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F91-5023-4D55-864D-C24E3E2E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4AB-35C4-4CB6-A018-DC6E2678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981-E99A-4C38-B53A-B244BD3F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F0A-991E-4DD7-B054-654855CB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F2B-CE21-4346-BBB7-012A10D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FD5-8F8C-454B-92D7-4CB9E7DE97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C097-7281-4C34-B575-96E92E21A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per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086D-C69C-4A60-B4B7-75AD2A3A9466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1B50-3D24-470C-B154-9E6366C576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D9C3-908F-467C-94B2-F2A32593DCC9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9F1F-9AFD-441D-A13E-39073E8CC4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E4E4-8C19-4C7F-AE28-FBEAEFED8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00F3-621D-4070-86D2-81E70FD09C22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8BC2-CD80-459E-A61A-D3C353E42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36C9-2291-4C52-9A5F-7653C4400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covery.gov/" TargetMode="External"/><Relationship Id="rId2" Type="http://schemas.openxmlformats.org/officeDocument/2006/relationships/hyperlink" Target="http://www.govbenefits.gov/" TargetMode="External"/><Relationship Id="rId3" Type="http://schemas.openxmlformats.org/officeDocument/2006/relationships/hyperlink" Target="http://www.makinghomeaffordable.gov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nancial Recovery title slide with FDIC Money Smart logo and module logo including a person helping someone up a st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52280" y="838080"/>
            <a:ext cx="6096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peració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152280" y="16765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inancie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sarrollar un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 plan de recuperación financier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ahorrar dinero, pagar sus facturas y reducir o eliminar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bería inclui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C:\Users\Luke\AppData\Local\Microsoft\Windows\Temporary Internet Files\Content.IE5\632VAGKS\MC900341851[1].jpg"/>
          <p:cNvPicPr/>
          <p:nvPr/>
        </p:nvPicPr>
        <p:blipFill>
          <a:blip r:embed="rId1"/>
          <a:stretch/>
        </p:blipFill>
        <p:spPr>
          <a:xfrm>
            <a:off x="2895480" y="4038480"/>
            <a:ext cx="2729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26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ean Específicos, Medibles, Alcanzables, Relevantes y Oportu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ganice sus objetivos por periodos de tiemp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úe su progreso y vuelva a evaluar sus objetivos periódic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Figure riding an arrow that is going up"/>
          <p:cNvPicPr/>
          <p:nvPr/>
        </p:nvPicPr>
        <p:blipFill>
          <a:blip r:embed="rId1"/>
          <a:stretch/>
        </p:blipFill>
        <p:spPr>
          <a:xfrm>
            <a:off x="7010280" y="4343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Mis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142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uno o dos objetivos financieros principal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cualquier objetivo relacionado que le pueda ayudar a conseguir estos objetivos princip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iguen las pautas inteligentes que hemos mencionado.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re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guir 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saber cuáles son sus ingresos y gastos todos los m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e la ansiedad de no poder cumplir con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da una sensación de control sobre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construir un patrimonio para mejorar la calidad de vida de usted y su fami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4" descr="Family (father, mother, son, and daughter) posing for a picture on their lawn"/>
          <p:cNvPicPr/>
          <p:nvPr/>
        </p:nvPicPr>
        <p:blipFill>
          <a:blip r:embed="rId1"/>
          <a:stretch/>
        </p:blipFill>
        <p:spPr>
          <a:xfrm>
            <a:off x="7640640" y="380880"/>
            <a:ext cx="13255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 hora de poner su plan en acción una vez que hay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valuado su situación financiera ac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tablecido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do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Implemen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edir asis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tacte c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gramas de asistencia locales, estatales y nacion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erígüelo sea cual sea su nivel de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ul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recovery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www.govbenefit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3"/>
              </a:rPr>
              <a:t>www.makinghomeaffordabl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Outstretched hand"/>
          <p:cNvPicPr/>
          <p:nvPr/>
        </p:nvPicPr>
        <p:blipFill>
          <a:blip r:embed="rId4"/>
          <a:stretch/>
        </p:blipFill>
        <p:spPr>
          <a:xfrm>
            <a:off x="7370640" y="2571840"/>
            <a:ext cx="1785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va a reparar su propio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ida una copia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que y corrija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muníquese con sus acreedores para explicar su situación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gocie planes de pagos con sus acreedores cuando tenga dinero para pagar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pte por no recibir ofertas no solicitadas de tarjetas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tener una copia de su 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da un informe crediticio gratuito de cada agencia crediticia cada 12 meses e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annualcreditreport.com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nual Credit Report screen shot"/>
          <p:cNvPicPr/>
          <p:nvPr/>
        </p:nvPicPr>
        <p:blipFill>
          <a:blip r:embed="rId2"/>
          <a:stretch/>
        </p:blipFill>
        <p:spPr>
          <a:xfrm>
            <a:off x="1297080" y="3124080"/>
            <a:ext cx="34369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car err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cree que hay un error en su informe creditici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óngase en contacto con la agencia de informes creditic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criba una carta para disputar el error y guarde una copia de la carta para sus regist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agencias de informes crediticios están obligadas a realizar una investigación en el plazo de 30 días después de recibir su carta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ntes de 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termin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debe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puede pagar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puede pagar a cada acreedor siendo re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té preparado par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su situación y cualquier esfuerzo que esté haciendo para pagar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enga un plan realista de cuándo puede hacer sus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568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ocumente la conversación o escriba una carta a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ntenga la cal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gunte si hay programas de "apuros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 honesto consigo mismo y con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acepte ninguna oferta que no pueda cumpl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13" descr="Cell phone"/>
          <p:cNvPicPr/>
          <p:nvPr/>
        </p:nvPicPr>
        <p:blipFill>
          <a:blip r:embed="rId1"/>
          <a:stretch/>
        </p:blipFill>
        <p:spPr>
          <a:xfrm>
            <a:off x="3733920" y="49100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podría ser lo correcto si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cesita ayuda para 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tiene la suficiente disciplina para segui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efiere no negociar con sus acreedores o no puede acordar un plan de pago aceptable con 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puede llevar un registro de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de asesoría crediticia le puede ayudar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dministrar su dinero y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prender sobre cómo administrar crédito de consumidores, dinero y deudas, y sobre presu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Man counseling a young guy"/>
          <p:cNvPicPr/>
          <p:nvPr/>
        </p:nvPicPr>
        <p:blipFill>
          <a:blip r:embed="rId1"/>
          <a:stretch/>
        </p:blipFill>
        <p:spPr>
          <a:xfrm>
            <a:off x="3505320" y="4546440"/>
            <a:ext cx="233820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mos en la reparación de crédi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eliminar información correcta de su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llevar años reparar legítimamente un mal crédi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crearle una identidad nue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compañías legítimas proporcionan un servicio antes de pedirle que pagu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pedir su propio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Revisar y ajus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e revisar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lan de gasto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de implementarlo y periódicamente después (por ejemplo, cada 6 mes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bjetivo financiero y prioridades de gastos cada 12 meses, o después de cualquier evento cru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forme crediticio al menos cada 12 meses y antes de solicitar un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justar su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sus ingresos y/o gastos cambi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alcance, ajuste o desarrolle un nuevo objetivo financi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haga una transición a una nueva etapa en su v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tes de que suceda algo inespe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Female using a computer"/>
          <p:cNvPicPr/>
          <p:nvPr/>
        </p:nvPicPr>
        <p:blipFill>
          <a:blip r:embed="rId1"/>
          <a:stretch/>
        </p:blipFill>
        <p:spPr>
          <a:xfrm>
            <a:off x="7434360" y="2098800"/>
            <a:ext cx="1549440" cy="23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ajustar su cobertura de segur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la cobertura de su seguro al menos una vez al añ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y qué tipo de seguro necesita dependerá de sus circunst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verigüe qué desastres naturales están cubiertos por su póliza de seguro de propietario estándar y asegúrese de estar bien proteg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Flooded area around a home"/>
          <p:cNvPicPr/>
          <p:nvPr/>
        </p:nvPicPr>
        <p:blipFill>
          <a:blip r:embed="rId1"/>
          <a:stretch/>
        </p:blipFill>
        <p:spPr>
          <a:xfrm>
            <a:off x="3505320" y="4579920"/>
            <a:ext cx="2209680" cy="1473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reconstruir su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su cartera de inversiones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l menos una vez al 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sufra cambios de vida impor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el mercado fluctú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juste su distribución teniendo en cuent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va a necesitar el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u tolerancia al ries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Stock market data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s ahor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ar gastos adicionales sin interrumpir o desviarle de su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que pueda pagar gastos adicionales y evitar los intereses y costos que le cobrarían al utilizar una tarjeta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oin being dropped into a piggy bank"/>
          <p:cNvPicPr/>
          <p:nvPr/>
        </p:nvPicPr>
        <p:blipFill>
          <a:blip r:embed="rId1"/>
          <a:stretch/>
        </p:blipFill>
        <p:spPr>
          <a:xfrm>
            <a:off x="7620120" y="457200"/>
            <a:ext cx="1249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venir futuros perc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uáles son algunos pasos que puede dar para seguir su rumbo hacia la recuperación financiera?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s ahor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plicando lo que ha aprend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dela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r pa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cono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edir ay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modos de aumentar sus ingresos y disminuir y dar prioridad a su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, implementar y ajustar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maneras de aumentar ingresos y reducir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ar prioridad a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 crédito y cómo evitar los timos en la reparación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asos para implementar con éxito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nocer cómo protegerse contra timos en la reparación d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eriodos de tiempo en los que revisará y ajustará su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 recuperación financier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s pasos a una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75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ner en marcha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y ajustar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Notebook, calculator, and pencil"/>
          <p:cNvPicPr/>
          <p:nvPr/>
        </p:nvPicPr>
        <p:blipFill>
          <a:blip r:embed="rId1"/>
          <a:stretch/>
        </p:blipFill>
        <p:spPr>
          <a:xfrm>
            <a:off x="3189240" y="4419720"/>
            <a:ext cx="1916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Evaluar su situación financiera act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4604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amine sus ingresos y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rueb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Check register"/>
          <p:cNvPicPr/>
          <p:nvPr/>
        </p:nvPicPr>
        <p:blipFill>
          <a:blip r:embed="rId1"/>
          <a:stretch/>
        </p:blipFill>
        <p:spPr>
          <a:xfrm>
            <a:off x="3124080" y="3581280"/>
            <a:ext cx="2514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Ingresos y gastos mensua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vise la hoja de trabajo de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ense en manera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ar prioridad a sus gasto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ue primero sus necesidades b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ás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pague los gastos de más prior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or último pague el resto d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Family (father, mother, and three girls) posing for a picture on their couch"/>
          <p:cNvPicPr/>
          <p:nvPr/>
        </p:nvPicPr>
        <p:blipFill>
          <a:blip r:embed="rId1"/>
          <a:stretch/>
        </p:blipFill>
        <p:spPr>
          <a:xfrm>
            <a:off x="5905440" y="1676520"/>
            <a:ext cx="26290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0-12-28T20:53:56Z</dcterms:modified>
  <cp:revision>6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